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1450-813C-431A-8A3F-CC749929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8B50-8665-49E4-B7A2-9E683F49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8F68-97D4-4231-B3D9-B6F794F5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F447-2B2B-494B-9FA2-31AEABF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44E-4F82-4BDF-954F-F173B9FC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9BEF-966A-4A1A-A694-5B07D4E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4AD-C9BC-4D40-97C4-F00840B4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643-56C9-458C-90E8-BD73C7D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9E2-3E77-4761-8476-E1C5C54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4B6-BE94-4C2B-A29B-FFDA440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6A1-EED4-498E-8E0A-0A856A4D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4D82-463D-44F0-96DC-13785D41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7EF-B12D-45B0-B2CD-E16003C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940-13E3-4E24-BFB3-D1C971A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3D4E-207B-4346-93B5-719C351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4860-752D-4EC8-9770-3E7CAF4A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3303-BD87-4880-9101-97C23180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4648-574D-44A9-B826-F093EB8D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EB9BB-628B-49ED-BCE9-BE36E24C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3FF1-5F2D-478F-A9C4-52308B5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04E7-E476-435C-94F7-4E0AC1EB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4129-019F-4BBB-BA8D-C5F6A03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B2BE-31A6-4812-B49F-8A6A27E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42AA-0F85-4211-8D1C-56476ED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E35-1157-4044-B8F3-EDA4DFB595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AFB6-231B-43D8-99B1-E4B89E67DE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 6, Lesson 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g. 18-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16:7 -17:19; 1 Kgs.16:1-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9608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848720" y="42667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vided His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ani the Prophet rebukes Asa – 2 Chron.16:7-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hu the Prophet Reproves Baasha – 1 Kgs.16:1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ah – reigns 2 years (evil) – 1 Kgs.16:8-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imri – 1 week (evil) 1 Kgs.16:15-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mri – 12 years (evil) 1 Kgs.16:21-2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vided His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s in 4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hoshaphat – 25 years (Good) – 1 Kgs.22:41-50; 22:2-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s His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hab – 22 years (evil) 1 Kgs.16:29 – 22:40; 2 Chron.18:1-3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ar of Ah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richo is rebui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2960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381880" y="44953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Judah’s Time Under Jehoshaph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ummary in 2 Chronicles 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shaphat succeeds his father 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igns piously, and is particularly blessed, v. 1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eaching ministry and beneficial effects, v. 7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hilistines and Arabians bring him gifts, v.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greatness, v. 12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anders of his troops, v. 14-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6095880" cy="395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534520" y="18288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305920" y="4495320"/>
            <a:ext cx="0" cy="1752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6:00:51Z</dcterms:created>
  <dc:creator>Terry W. Benton</dc:creator>
  <dc:description/>
  <dc:language>en-US</dc:language>
  <cp:lastModifiedBy>Frank D Vines</cp:lastModifiedBy>
  <dcterms:modified xsi:type="dcterms:W3CDTF">2005-07-17T01:17:52Z</dcterms:modified>
  <cp:revision>2</cp:revision>
  <dc:subject/>
  <dc:title>Till There Was No Remedy (Divided Kingdom)</dc:title>
</cp:coreProperties>
</file>